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38E-962D-4952-AC4A-9200E1B1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D6F-C7C6-4BE4-B01A-4FBDD73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B26-B455-44F7-BE7F-746A4058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576-5DCD-4FE4-8C82-C23808BD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ECC-0C94-4394-88F1-156F2FE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E20-C65C-461A-BE3B-78D63A8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AA7-744D-49F4-99A7-7FDF35A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83C-C42F-4034-9827-7A820E2B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240-FD0C-4300-9AA6-AC35DA0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E43-85DB-4F8B-9FE7-5324A28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2AD-5C02-45BE-BECC-20A9CFC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509-738C-4946-9358-A40F31A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B582-4854-44A2-A6EE-0E7C9BDD8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-Chip Sensors for Process, Aging, and Temperature Var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ushik Mazum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red Robert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mal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52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scillator can be stretched across a chip to sense temperature var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variation sensitivity should be min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mulations achieved a sensitivity reduction of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4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5041800" cy="36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914400" y="5334120"/>
          <a:ext cx="3174840" cy="960480"/>
        </p:xfrm>
        <a:graphic>
          <a:graphicData uri="http://schemas.openxmlformats.org/drawingml/2006/table">
            <a:tbl>
              <a:tblPr/>
              <a:tblGrid>
                <a:gridCol w="712800"/>
                <a:gridCol w="608040"/>
                <a:gridCol w="609480"/>
                <a:gridCol w="608040"/>
                <a:gridCol w="636480"/>
              </a:tblGrid>
              <a:tr h="546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n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TI/PBTI Sen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81532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Sensor Measures Beat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ial Measurement Method Isolates NBTI/PBTI Degradation from other variation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773100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dometer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C:\Users\jar3qf\Downloads\beat_freq.png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ed variation issues and exis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simulation methodology an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ed oscillator circuit to isolate process variation from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played how circuit can be used as a temperature sen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d NBTI/PBTI degradation detec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ion of possible future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. A. Alam, S. Mahapatra, "A comprehensive model of PMOS NBTI degradation," Microelectronics Reliability, vol. 45, pp. 71--81, 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anak Agarwal; Kanak Sani Nassif; “Characterizing process variation in nanometer CMOS”, Proceedings of the 44th annual conference on Design automation, June 04-08, 2007, San Diego, Califor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garwal, Kanak, “On-die sensors for measuring process and environmental variation in integrated circuits.” IBM Corps. Austin, TX.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e-Hyoung Kim; Persaud, R.; Kim, C.H.; "Silicon Odometer: An On-Chip Reliability Monitor for Measuring Frequency Degradation of Digital Circuits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olid-State Circuits, IEEE Journal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 43, no. 4, pp. 874-880, April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ei Zhao; Liu, F.; Agarwal, K.; Acharyya, D.; Nassif, S.R.; Nowka, K.J.; Yu Cao; , "Rigorous Extraction of Process Variations for 65-nm CMOS Design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emiconductor Manufacturing, IEEE Transactions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2, no.1, pp.196-203, Feb.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umar, R.; Kursun, V.; , "Temperature Variation Insensitive Energy Efficient CMOS Circuits in a 65nm CMOS Technology," 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ircuits and Systems, 2006. MWSCAS '06. 49th IEEE International Midwest Symposium 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, vol.2, no., pp.226-230, 6-9 Aug. 2006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1760" y="16765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irc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C:\Users\jar3qf\AppData\Local\Microsoft\Windows\Temporary Internet Files\Content.IE5\32B9WUZD\MC900297177[1].wmf"/>
          <p:cNvPicPr/>
          <p:nvPr/>
        </p:nvPicPr>
        <p:blipFill>
          <a:blip r:embed="rId1"/>
          <a:stretch/>
        </p:blipFill>
        <p:spPr>
          <a:xfrm>
            <a:off x="4191120" y="1981080"/>
            <a:ext cx="4228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769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Process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Var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TI/PBTI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4038480" cy="2028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05740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upload.wikimedia.org/wikipedia/commons/thumb/8/8c/Standard_deviation_diagram.svg/1000px-Standard_deviation_diagram.svg.png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ic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st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I/O P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ng Oscil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Measure Mismatch or Variation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Measure PMOS/NMOS Variation Separate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64796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67057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or Circu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99128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4864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4495680"/>
          <a:ext cx="2590560" cy="1067040"/>
        </p:xfrm>
        <a:graphic>
          <a:graphicData uri="http://schemas.openxmlformats.org/drawingml/2006/table">
            <a:tbl>
              <a:tblPr/>
              <a:tblGrid>
                <a:gridCol w="1022400"/>
                <a:gridCol w="734760"/>
                <a:gridCol w="833400"/>
              </a:tblGrid>
              <a:tr h="194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G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 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k Pull-down / Strong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1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ong Pull-down / Weak Pull-u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.4 m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4191120" cy="1676520"/>
        </p:xfrm>
        <a:graphic>
          <a:graphicData uri="http://schemas.openxmlformats.org/drawingml/2006/table">
            <a:tbl>
              <a:tblPr/>
              <a:tblGrid>
                <a:gridCol w="698400"/>
                <a:gridCol w="698760"/>
                <a:gridCol w="698400"/>
                <a:gridCol w="698400"/>
                <a:gridCol w="698400"/>
                <a:gridCol w="698760"/>
              </a:tblGrid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O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7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8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2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4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4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3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8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5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3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9"/>
          <p:cNvSpPr/>
          <p:nvPr/>
        </p:nvSpPr>
        <p:spPr>
          <a:xfrm>
            <a:off x="5562720" y="1981080"/>
            <a:ext cx="3124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Monte Carlo to randomly vary Vt in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frequency of ring oscillator for each active header/footer over various process r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cted statistical data from frequenc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hart 6" descr=""/>
          <p:cNvPicPr/>
          <p:nvPr/>
        </p:nvPicPr>
        <p:blipFill>
          <a:blip r:embed="rId1"/>
          <a:stretch/>
        </p:blipFill>
        <p:spPr>
          <a:xfrm>
            <a:off x="450720" y="3651120"/>
            <a:ext cx="42004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Voltage Ex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05520" y="2209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variability and systematic shift can be measured from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equation derived from simulation to calculate device-level variations with oscillator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146160" y="1901880"/>
            <a:ext cx="5114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4" descr=""/>
          <p:cNvPicPr/>
          <p:nvPr/>
        </p:nvPicPr>
        <p:blipFill>
          <a:blip r:embed="rId1"/>
          <a:stretch/>
        </p:blipFill>
        <p:spPr>
          <a:xfrm>
            <a:off x="4413240" y="1517760"/>
            <a:ext cx="4432320" cy="2676240"/>
          </a:xfrm>
          <a:prstGeom prst="rect">
            <a:avLst/>
          </a:prstGeom>
          <a:ln w="0">
            <a:noFill/>
          </a:ln>
        </p:spPr>
      </p:pic>
      <p:pic>
        <p:nvPicPr>
          <p:cNvPr id="68" name="Chart 6" descr=""/>
          <p:cNvPicPr/>
          <p:nvPr/>
        </p:nvPicPr>
        <p:blipFill>
          <a:blip r:embed="rId2"/>
          <a:stretch/>
        </p:blipFill>
        <p:spPr>
          <a:xfrm>
            <a:off x="4413240" y="4035600"/>
            <a:ext cx="4432320" cy="267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09480" y="1905120"/>
            <a:ext cx="3353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is more sensitive to process variation when header/footer sizing is min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becomes more sensitive to process variation as number of oscillator stage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sitivity Kn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hart 5" descr=""/>
          <p:cNvPicPr/>
          <p:nvPr/>
        </p:nvPicPr>
        <p:blipFill>
          <a:blip r:embed="rId1"/>
          <a:stretch/>
        </p:blipFill>
        <p:spPr>
          <a:xfrm>
            <a:off x="146160" y="1670040"/>
            <a:ext cx="4962240" cy="3213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5181480" y="16002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it is more sensitive to process variation at higher V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knobs to maximize sensitivity for 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ing many sensors around the chip exploits the increased sensitivity for fewer ring oscillato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95280" y="5029200"/>
          <a:ext cx="3200400" cy="1066680"/>
        </p:xfrm>
        <a:graphic>
          <a:graphicData uri="http://schemas.openxmlformats.org/drawingml/2006/table">
            <a:tbl>
              <a:tblPr/>
              <a:tblGrid>
                <a:gridCol w="776520"/>
                <a:gridCol w="774720"/>
                <a:gridCol w="1649160"/>
              </a:tblGrid>
              <a:tr h="355680"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cess Variation Sensi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er/Footer Siz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5:43:42Z</dcterms:created>
  <dc:creator>jar3qf</dc:creator>
  <dc:description/>
  <dc:language>en-US</dc:language>
  <cp:lastModifiedBy>jar3qf</cp:lastModifiedBy>
  <dcterms:modified xsi:type="dcterms:W3CDTF">2010-11-30T17:09:55Z</dcterms:modified>
  <cp:revision>14</cp:revision>
  <dc:subject/>
  <dc:title>Slide 1</dc:title>
</cp:coreProperties>
</file>